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E62A-4D61-41BE-A62F-A515D8813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9BCF-7B71-44A4-A478-213A0831A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BD6-4C94-4903-B6D8-4E15042B4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C94B-70FB-49E1-8191-29713F0F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7178-D38F-422B-8817-F82A6FA6D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BA18-EEB3-46F7-8F31-A9FAA0BD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5F35-7726-4706-B360-7F577D05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0431-930C-4C98-96C5-5D4EA3B9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097A-1977-4854-8D2C-FE063D91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C794-26BB-4C18-8277-F3066659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C1D7-D0AA-4CC1-897A-D49E87FE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0218-4D3B-4EBA-AD1B-7D81E30C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5674-01AC-429B-AFB4-2729460F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0314-F5A0-493C-97F0-FFD687DE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A3DF-4050-44C5-8168-9323FB79AB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K.C. Boyd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B0D2-83A2-4328-9F90-68509229E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05120" y="1904760"/>
            <a:ext cx="53337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reating a Easy Fiction Picture Book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 Service Learning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USL Wendell Phillips Academy High Sch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s Boyd, Library Media Specia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s Funk, Spanish Teac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570050.dd.gif"/>
          <p:cNvPicPr/>
          <p:nvPr/>
        </p:nvPicPr>
        <p:blipFill>
          <a:blip r:embed="rId1"/>
          <a:stretch/>
        </p:blipFill>
        <p:spPr>
          <a:xfrm>
            <a:off x="0" y="0"/>
            <a:ext cx="2286000" cy="2690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32588641.jpg"/>
          <p:cNvPicPr/>
          <p:nvPr/>
        </p:nvPicPr>
        <p:blipFill>
          <a:blip r:embed="rId2"/>
          <a:stretch/>
        </p:blipFill>
        <p:spPr>
          <a:xfrm>
            <a:off x="6831000" y="0"/>
            <a:ext cx="2313000" cy="2819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9780061288777_zoom.jpg"/>
          <p:cNvPicPr/>
          <p:nvPr/>
        </p:nvPicPr>
        <p:blipFill>
          <a:blip r:embed="rId3"/>
          <a:stretch/>
        </p:blipFill>
        <p:spPr>
          <a:xfrm>
            <a:off x="0" y="4143240"/>
            <a:ext cx="2286000" cy="2714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TestingTheIceCover[1].jpg"/>
          <p:cNvPicPr/>
          <p:nvPr/>
        </p:nvPicPr>
        <p:blipFill>
          <a:blip r:embed="rId4"/>
          <a:stretch/>
        </p:blipFill>
        <p:spPr>
          <a:xfrm>
            <a:off x="6858000" y="4176720"/>
            <a:ext cx="2286000" cy="26812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K.C. Boyd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asy Fiction Picture Boo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13336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sy Fiction  - short stories written ab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aginary people and ev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http://www.southernplate.com/wp-content/uploads/2010/11/Green-eggs-and-ham.jpg"/>
          <p:cNvPicPr/>
          <p:nvPr/>
        </p:nvPicPr>
        <p:blipFill>
          <a:blip r:embed="rId1"/>
          <a:stretch/>
        </p:blipFill>
        <p:spPr>
          <a:xfrm rot="20987400">
            <a:off x="477360" y="4795560"/>
            <a:ext cx="1352520" cy="1846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http://t2.gstatic.com/images?q=tbn:ANd9GcRwz8F6AyM2fzDQseScuZiFTOwlfUkO6iYVV8_JVk5coO4QFiPo&amp;t=1"/>
          <p:cNvPicPr/>
          <p:nvPr/>
        </p:nvPicPr>
        <p:blipFill>
          <a:blip r:embed="rId2"/>
          <a:stretch/>
        </p:blipFill>
        <p:spPr>
          <a:xfrm rot="799800">
            <a:off x="7402680" y="5003640"/>
            <a:ext cx="1280880" cy="1570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http://ak2.ostkcdn.com/images/products/bnt/FC039516964X.JPG"/>
          <p:cNvPicPr/>
          <p:nvPr/>
        </p:nvPicPr>
        <p:blipFill>
          <a:blip r:embed="rId3"/>
          <a:stretch/>
        </p:blipFill>
        <p:spPr>
          <a:xfrm rot="1129800">
            <a:off x="7467480" y="3063600"/>
            <a:ext cx="1308240" cy="1627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Details"/>
          <p:cNvPicPr/>
          <p:nvPr/>
        </p:nvPicPr>
        <p:blipFill>
          <a:blip r:embed="rId4"/>
          <a:stretch/>
        </p:blipFill>
        <p:spPr>
          <a:xfrm>
            <a:off x="2590920" y="3886200"/>
            <a:ext cx="1628640" cy="235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Details"/>
          <p:cNvPicPr/>
          <p:nvPr/>
        </p:nvPicPr>
        <p:blipFill>
          <a:blip r:embed="rId5"/>
          <a:stretch/>
        </p:blipFill>
        <p:spPr>
          <a:xfrm>
            <a:off x="5181480" y="3962520"/>
            <a:ext cx="1567080" cy="2209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Cover Image"/>
          <p:cNvPicPr/>
          <p:nvPr/>
        </p:nvPicPr>
        <p:blipFill>
          <a:blip r:embed="rId6"/>
          <a:stretch/>
        </p:blipFill>
        <p:spPr>
          <a:xfrm rot="20899200">
            <a:off x="458640" y="2936520"/>
            <a:ext cx="1325880" cy="1652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Cover Image"/>
          <p:cNvPicPr/>
          <p:nvPr/>
        </p:nvPicPr>
        <p:blipFill>
          <a:blip r:embed="rId7"/>
          <a:stretch/>
        </p:blipFill>
        <p:spPr>
          <a:xfrm rot="20878200">
            <a:off x="92160" y="371160"/>
            <a:ext cx="1481040" cy="1041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http://2.bp.blogspot.com/_2brR4nApx7A/TOKtlJeZq1I/AAAAAAAAA4Y/hIWZGwTX45U/s1600/Where-The-Wild-Things-Are.jpg"/>
          <p:cNvPicPr/>
          <p:nvPr/>
        </p:nvPicPr>
        <p:blipFill>
          <a:blip r:embed="rId8"/>
          <a:stretch/>
        </p:blipFill>
        <p:spPr>
          <a:xfrm rot="1179000">
            <a:off x="7619760" y="345600"/>
            <a:ext cx="1360440" cy="1208160"/>
          </a:xfrm>
          <a:prstGeom prst="rect">
            <a:avLst/>
          </a:prstGeom>
          <a:ln w="0">
            <a:noFill/>
          </a:ln>
        </p:spPr>
      </p:pic>
      <p:sp>
        <p:nvSpPr>
          <p:cNvPr id="65" name="Footer Placeholder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K.C. Boyd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sy Fiction Picture 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books are typically read by young read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grades Kdg. –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help develop the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 skills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Book Fiesta 8.jpg"/>
          <p:cNvPicPr/>
          <p:nvPr/>
        </p:nvPicPr>
        <p:blipFill>
          <a:blip r:embed="rId1"/>
          <a:stretch/>
        </p:blipFill>
        <p:spPr>
          <a:xfrm>
            <a:off x="5867280" y="4038480"/>
            <a:ext cx="2971800" cy="1971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ron21.jpg"/>
          <p:cNvPicPr/>
          <p:nvPr/>
        </p:nvPicPr>
        <p:blipFill>
          <a:blip r:embed="rId2"/>
          <a:stretch/>
        </p:blipFill>
        <p:spPr>
          <a:xfrm>
            <a:off x="152280" y="3962520"/>
            <a:ext cx="2149560" cy="2098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http://www.rubberball.com/RBImages/blend2/wm/ar070505177.jpg"/>
          <p:cNvPicPr/>
          <p:nvPr/>
        </p:nvPicPr>
        <p:blipFill>
          <a:blip r:embed="rId3"/>
          <a:stretch/>
        </p:blipFill>
        <p:spPr>
          <a:xfrm>
            <a:off x="2590920" y="358128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71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K.C. Boyd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sy Fiction Picture 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e text or sight words are used to tell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ry.  The Illustrations or pictures  are 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brant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Book Fiesta 7.jpg"/>
          <p:cNvPicPr/>
          <p:nvPr/>
        </p:nvPicPr>
        <p:blipFill>
          <a:blip r:embed="rId1"/>
          <a:stretch/>
        </p:blipFill>
        <p:spPr>
          <a:xfrm>
            <a:off x="1752480" y="3505320"/>
            <a:ext cx="5448600" cy="2819160"/>
          </a:xfrm>
          <a:prstGeom prst="rect">
            <a:avLst/>
          </a:prstGeom>
          <a:ln w="0">
            <a:noFill/>
          </a:ln>
        </p:spPr>
      </p:pic>
      <p:sp>
        <p:nvSpPr>
          <p:cNvPr id="7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K.C. Boyd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sy Fiction Picture 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880" y="17524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llustrations also provide clues that describe the text and further help tell the 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http://blaine.org/jules/Ruby_Bridges_illustrated_by_Shadra_Strickland.jpg"/>
          <p:cNvPicPr/>
          <p:nvPr/>
        </p:nvPicPr>
        <p:blipFill>
          <a:blip r:embed="rId1"/>
          <a:stretch/>
        </p:blipFill>
        <p:spPr>
          <a:xfrm>
            <a:off x="5227560" y="3505320"/>
            <a:ext cx="3916440" cy="228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http://g-ecx.images-amazon.com/images/G/01/books/macmillan_gms/Rosa_350.jpg"/>
          <p:cNvPicPr/>
          <p:nvPr/>
        </p:nvPicPr>
        <p:blipFill>
          <a:blip r:embed="rId2"/>
          <a:stretch/>
        </p:blipFill>
        <p:spPr>
          <a:xfrm>
            <a:off x="0" y="3505320"/>
            <a:ext cx="3884760" cy="2286000"/>
          </a:xfrm>
          <a:prstGeom prst="rect">
            <a:avLst/>
          </a:prstGeom>
          <a:ln w="0">
            <a:noFill/>
          </a:ln>
        </p:spPr>
      </p:pic>
      <p:sp>
        <p:nvSpPr>
          <p:cNvPr id="80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K.C. Boyd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sy Fiction Picture 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books are often 30-32 pages in length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ht_ice_skating_091001_main.jpg"/>
          <p:cNvPicPr/>
          <p:nvPr/>
        </p:nvPicPr>
        <p:blipFill>
          <a:blip r:embed="rId1"/>
          <a:stretch/>
        </p:blipFill>
        <p:spPr>
          <a:xfrm>
            <a:off x="4572000" y="3048120"/>
            <a:ext cx="4322880" cy="2514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lh5.ggpht.com/_yrekTwxh5wk/TNoaQjuIGAI/AAAAAAAAVhs/dbw-RwTwhok/s800/014_Kadir-Nelson_Testing-the-Ice.jpg"/>
          <p:cNvPicPr/>
          <p:nvPr/>
        </p:nvPicPr>
        <p:blipFill>
          <a:blip r:embed="rId2"/>
          <a:stretch/>
        </p:blipFill>
        <p:spPr>
          <a:xfrm>
            <a:off x="152280" y="3048120"/>
            <a:ext cx="3810240" cy="2543040"/>
          </a:xfrm>
          <a:prstGeom prst="rect">
            <a:avLst/>
          </a:prstGeom>
          <a:ln w="0">
            <a:noFill/>
          </a:ln>
        </p:spPr>
      </p:pic>
      <p:sp>
        <p:nvSpPr>
          <p:cNvPr id="8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K.C. Boyd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sy Fiction Picture 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al language books include the foreig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nguage and the English trans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Book Fiesta reading on whale.jpg"/>
          <p:cNvPicPr/>
          <p:nvPr/>
        </p:nvPicPr>
        <p:blipFill>
          <a:blip r:embed="rId1"/>
          <a:stretch/>
        </p:blipFill>
        <p:spPr>
          <a:xfrm>
            <a:off x="1371600" y="3200400"/>
            <a:ext cx="6172200" cy="3114720"/>
          </a:xfrm>
          <a:prstGeom prst="rect">
            <a:avLst/>
          </a:prstGeom>
          <a:ln w="0">
            <a:noFill/>
          </a:ln>
        </p:spPr>
      </p:pic>
      <p:sp>
        <p:nvSpPr>
          <p:cNvPr id="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K.C. Boyd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sy Fiction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                  Picture 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62120" y="3809520"/>
            <a:ext cx="8991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ll a good story that will satisfy the rea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ep the story sim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text should be short and to the 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illustrations or jpeg images (google imag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ember, the story will be read to young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www.juniorlibraryguild.com/images/9780525478492/InteriorArt/9780525478492_zoom.jpg"/>
          <p:cNvPicPr/>
          <p:nvPr/>
        </p:nvPicPr>
        <p:blipFill>
          <a:blip r:embed="rId1"/>
          <a:stretch/>
        </p:blipFill>
        <p:spPr>
          <a:xfrm>
            <a:off x="0" y="0"/>
            <a:ext cx="2743200" cy="348444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K.C. Boyd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9:47:14Z</dcterms:created>
  <dc:creator>KCBoyd</dc:creator>
  <dc:description/>
  <dc:language>en-US</dc:language>
  <cp:lastModifiedBy>KimberlyCeleste Boyd</cp:lastModifiedBy>
  <dcterms:modified xsi:type="dcterms:W3CDTF">2011-02-23T02:50:55Z</dcterms:modified>
  <cp:revision>12</cp:revision>
  <dc:subject/>
  <dc:title> </dc:title>
</cp:coreProperties>
</file>